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15.jpeg" ContentType="image/jpe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.jpeg" ContentType="image/jpeg"/>
  <Override PartName="/ppt/media/image4.wmf" ContentType="image/x-wmf"/>
  <Override PartName="/ppt/media/image27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E5A-B9A9-42BB-963B-D6201399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2F1-62AC-439C-AAB3-3517C615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460-73E4-4919-B797-B97E77ED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2F2-D3F6-4A92-9D51-86166703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49F72-EFBD-421D-BECA-DBD781BD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9587C-5B8E-44BC-BBA0-66B1672E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38F8F-AD97-4715-8B54-F896D7FF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36B21-DAE2-4251-A41A-E320A246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E4A21-8749-4632-AA2E-682B36F2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9E214-4E6B-4AB2-A1B4-200893B2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11E41-F16E-4424-A4AF-BD362E6B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DA9-3B4E-408A-A49E-36238E98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DA15A-AC95-404D-9774-5F6389E0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DB454-A00F-4231-936A-93843B0B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E680D-7764-4E50-8F07-0299B390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B359A-D87C-4146-8486-03EB69BB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3EB5A-3314-4FB8-9614-093B1B88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195-5B7A-4F53-9F0B-CD65BE5B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0C4-DDB0-4D3E-BDF5-268C5DEF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88A-3174-4444-8B09-0FC0273B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866-886B-48CF-B76A-1F13DC3D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584-35D7-414D-A59E-52D0AF11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396-DF08-42CC-8D48-6261EBB9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4DB-33F9-4D7C-8517-627FB720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AC1F-FDD1-42C4-BB15-4C531CBC3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7E22-BA78-40B1-B2BD-FBAE58EFE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ris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I thought it’s close to Halloween” I said. People are coming truck or treating.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013360"/>
            <a:ext cx="1730520" cy="1844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690640" y="4637160"/>
            <a:ext cx="1876680" cy="1930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334120" y="4911840"/>
            <a:ext cx="1562040" cy="1946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7467480" y="5030640"/>
            <a:ext cx="14572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14400" y="5024520"/>
            <a:ext cx="1249200" cy="1833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 rot="21455400">
            <a:off x="4800240" y="5043600"/>
            <a:ext cx="17762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ere a ton of Monsters outside my window invading the tow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53080" y="2590920"/>
            <a:ext cx="1968480" cy="761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362320" y="5213520"/>
            <a:ext cx="232092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58000" y="5286240"/>
            <a:ext cx="1930320" cy="1571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04920" y="3048120"/>
            <a:ext cx="1923840" cy="1174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800600" y="5289480"/>
            <a:ext cx="1927080" cy="1568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228600" y="5626080"/>
            <a:ext cx="19368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a chilly October  night when my shutters flew ope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214776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350120" y="5038560"/>
            <a:ext cx="1793880" cy="1819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818480" y="2666880"/>
            <a:ext cx="132552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048120" y="3419640"/>
            <a:ext cx="36795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all so scary. Me and my family were the only ones left in town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50080" y="3735360"/>
            <a:ext cx="2293920" cy="3122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4672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suddenly something peeked through the windo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5029200"/>
            <a:ext cx="4559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I was so scared! I went in my room and got under my cov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6400800" cy="3733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161136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520380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looked like a lot of things but I just couldn’t tell what it was but I was still scar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378560" y="502920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5024520"/>
            <a:ext cx="1498680" cy="1833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752480" y="3429000"/>
            <a:ext cx="2981520" cy="3429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876920" y="3735360"/>
            <a:ext cx="22939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kind of looked like a monster mumm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657600" y="5013360"/>
            <a:ext cx="1730520" cy="1844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0492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ary N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then I just remembered that It was close to Hallowe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1:18Z</dcterms:created>
  <dc:creator>student</dc:creator>
  <dc:description/>
  <dc:language>en-US</dc:language>
  <cp:lastModifiedBy>Joni George</cp:lastModifiedBy>
  <dcterms:modified xsi:type="dcterms:W3CDTF">2010-10-27T13:57:07Z</dcterms:modified>
  <cp:revision>13</cp:revision>
  <dc:subject/>
  <dc:title>christy</dc:title>
</cp:coreProperties>
</file>